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42A-BE4F-42B4-AF31-ABAD6282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3AA-7E59-4FAE-B489-DD797D8E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06D-FCDC-498C-B3F8-64645BA3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58E-9A44-413C-A162-451B8ADF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7FA-EB6C-4D09-B98E-9E8A47E4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74B-6CF5-46D8-BFDD-F2713A75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C76-60FF-4125-B094-ACBF969D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371-9827-4D77-8CF4-8D803305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586-EE0C-483A-99B2-89C9461D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70D-7DEF-4231-ABF3-CAADE1D6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87D-CB17-428F-B8AB-47F7308C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B62-F261-4675-80DE-351A22BD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85881-BDC1-4704-82D4-D1E5A2AAFB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73896-16DA-4DB4-A2F8-C1357C237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1732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bstance Q has a pH of 1.5.  Substance Q is  _______________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strong aci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weak aci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strong 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weak 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ut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l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 and 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.4 pH Indi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3976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Scientists use different types of indicators to test the pH of substanc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o decode a complex question about indicator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Read the passage and question thoroughl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Make a concept map of the passag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Use the information from the question with the concept map to answer the questio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26960" y="565200"/>
            <a:ext cx="793440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solution of phenol red is used as a pH indicator. Its color exhibits a change from yellow to red over the pH range 6.8 to 8.2. Above pH 8.2, phenol red turns a bright pink color.  Jerry adds phenol red to a mystery solution.  The mystery solution turns pink.  Is the mystery solution an acid, base, or neutra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150480"/>
            <a:ext cx="9144000" cy="67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indent="-633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orophenol red is an indicator dye that changes color from yellow to violet in the pH range 4.8 to 6.7.  Cameron adds Chlorophenol to a mystery substance.  Cameron observes that the mystery substance turns violet.  Based upon Cameron’s observations, which of the following statements is the best conclusion about the mystery substa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-6336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ystery substance is a strong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-6336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ystery substance is a strong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-6336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ystery substance is either neutral or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-6336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ystery substance is a weak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-6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1768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Your team will be given guided practice sheets for each team memb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 NOT write on the sheets. You can ask for scratch paper to make concept maps if you need i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ch team member should write their answers on the colored piece of paper they were provided.  I will randomly collect 1 color of paper at the end of class to grade – so every group member should have the correct answer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assignment will be worth a daily grade and you will earn a team point for every correct answ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2:57:19Z</dcterms:created>
  <dc:creator>Caroline Roth</dc:creator>
  <dc:description/>
  <dc:language>en-US</dc:language>
  <cp:lastModifiedBy>Caroline Roth</cp:lastModifiedBy>
  <dcterms:modified xsi:type="dcterms:W3CDTF">2011-04-12T11:47:36Z</dcterms:modified>
  <cp:revision>7</cp:revision>
  <dc:subject/>
  <dc:title>9.4 pH Indicators</dc:title>
</cp:coreProperties>
</file>